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2B0-126D-4D47-BF08-23EE1979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616-6FB1-4385-AD0C-D63F3B9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3FE-B909-43F6-9024-EB41433C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66B-31B6-48FF-90A7-B9366011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5E2-4FE2-4468-A952-861EDD40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CE6-C8CC-4C30-BD86-D1B33812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89C-6B86-4E22-A080-4593042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912-4694-4375-998C-0595C074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427-E03B-4D85-A8F1-96F7639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9CB-D7A6-4AED-8526-C60327F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E60-34AA-40CA-8EB9-29D87D7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A80-4B1D-46FA-B4EC-DBF79BD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9F7D-9555-408E-B35F-45C5CBDBA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’s awesome power-point on the possessive apostrop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57150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otball of Nick = Nick’s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17524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327672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97180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26708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postrop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41008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715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124080"/>
            <a:ext cx="2743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267080"/>
            <a:ext cx="2743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486400"/>
            <a:ext cx="2743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’s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64008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ketball of Michael = Michael's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05520"/>
            <a:ext cx="25146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26708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2578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’s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114800"/>
            <a:ext cx="3429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out letters you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105520"/>
            <a:ext cx="3962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issing letters with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43434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53341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114800"/>
            <a:ext cx="3429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out letters you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105520"/>
            <a:ext cx="3962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issing letters with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43434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3341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4:21:12Z</dcterms:created>
  <dc:creator>502</dc:creator>
  <dc:description/>
  <dc:language>en-US</dc:language>
  <cp:lastModifiedBy>502</cp:lastModifiedBy>
  <dcterms:modified xsi:type="dcterms:W3CDTF">2009-07-29T04:32:26Z</dcterms:modified>
  <cp:revision>2</cp:revision>
  <dc:subject/>
  <dc:title>Nick’s awesome power-point on the possessive apostrophe</dc:title>
</cp:coreProperties>
</file>